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BE86D-687A-4473-98CE-CB7FEF582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288279F-204C-4C55-A3D7-B51F7C2D0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FB71F-0AD9-4590-89D2-ACB2E90E24D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7FFB-C753-426C-B4C1-9C3DF5E61C7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8F982-2EB6-468A-8BE2-77227083C23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B5217-BCCB-4592-8760-64F59AD6AB2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9C5D6-A918-4A0D-82B0-5193809E8AB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76E13-72BC-498A-A982-3F0B26B851F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A98B-CA9B-434B-B38A-F8CB4ACF6B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EC43-7E87-4281-8459-A556B0CAA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8852-A664-4166-B9F2-0A7226691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45B8-02B4-406C-9CE4-CE2F23734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81E6-5DE7-49CB-806D-73EEDD31D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8137-8172-4549-B0DD-25706384F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2E43-548E-4D87-8E43-0A6555B59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7963-2946-4088-BC2C-9818EA101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9B1B-D065-4331-B8FD-C3C484CDD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F8C-BB56-401B-9BC2-0F85C299B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8891-1784-4402-8134-602CD99A6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2A7F-3C78-4280-BB24-ABB93F9CF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F134-91B2-42E0-ACE1-88BD6F72F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1D7-518C-4A96-B123-9F1E39B4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vee@virginia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7D9F-5839-4C88-9C69-BB3220A2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of NSF OCI EAG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SF OCI SDCI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ie Li, Zhengyang Liu, and Malathi Veeraraghav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{jl3yh, zl4ef, mvee}@virgin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ch 22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33720" y="5176800"/>
            <a:ext cx="571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is work was carried out as part of NSF sponsored research projects, OCI-1038058 and OCI-1127340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1A9-61CC-40D8-BC85-5DB7CE367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57200" y="15238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transfers from NERSC DTN servers that &gt; 100 MB in one month (Sept. 2010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tal number of transfers: 124236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usage statist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5" name="Picture 33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72280" cy="28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324080" y="6183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Brent Draney, Jing Tie and Ian Foster for the GridFT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 session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tained NERSC data from Globus (Ian Fost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age stats reported to Globus does not include dest IP address (privacy reas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not group transfers into s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to have them assign someone to run our analysis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5F5-392D-4827-ACCD-0E6EFB8A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age of dynamic V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rcentage of sessions are long-lived even if rate of the transfers is assumed to be h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dynamic VCs can be set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VC setup delay should be reduc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namic VCs important for inter-domain science fl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net – Hurricane Electric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3A3-4033-492B-9A92-501FF453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 and NCAR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D2B-82D3-4266-9521-5D5296DD0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0BA-B7FF-4BDE-B5B0-D90DBA5E7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were 145 file transfers of size 32 GB to ORNL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round-trip time (RTT), bottleneck link rate and packet loss rate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QR (Inter-quartile range) measure of variance is 695 Mbp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an explanation for this varianc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543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causes of throughput vari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characteris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TT, bottleneck link rate, packet lo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ri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arallel TCP str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-of-day depen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current GridFTP trans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ink utilization (SNMP dat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PU usage, I/O usage on servers at the two 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2118-1CBF-438A-BBCF-EDEBF4EA9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03" name="Straight Arrow Connector 2"/>
          <p:cNvCxnSpPr/>
          <p:nvPr/>
        </p:nvCxnSpPr>
        <p:spPr>
          <a:xfrm>
            <a:off x="685440" y="152352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TextBox 3"/>
          <p:cNvSpPr/>
          <p:nvPr/>
        </p:nvSpPr>
        <p:spPr>
          <a:xfrm rot="16200000">
            <a:off x="-481320" y="21222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fo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5 transf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me-of-day depend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ERSC 32 GB: same path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Content Placeholder 5" descr="timeofday-throughput-32G.png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8A4-F4C2-4D7C-9FDC-2D49305F3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5257800" y="24382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ets of transfers: 2 AM and 8 AM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r throughput levels on some 2 AM transfers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variance even among same time-of-day flow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p. on concurrent transfers: Predicted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71D-D6F2-4677-9B87-BD2230C16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1" name="Picture 3" descr="step.png"/>
          <p:cNvPicPr/>
          <p:nvPr/>
        </p:nvPicPr>
        <p:blipFill>
          <a:blip r:embed="rId1"/>
          <a:stretch/>
        </p:blipFill>
        <p:spPr>
          <a:xfrm>
            <a:off x="168768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116680" y="2514600"/>
            <a:ext cx="247644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Content Placeholder 2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number of concurrent transfers from GridFTP logs for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2 GB GridFTP transfer: NERSC end only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predicted throughpu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uration of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nsfe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umber of concurrent transfers in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th transfer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e on concurrent transfers (NERSC 32 GB transf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Content Placeholder 7" descr="predicted-throughput-by-transfer.png"/>
          <p:cNvPicPr/>
          <p:nvPr/>
        </p:nvPicPr>
        <p:blipFill>
          <a:blip r:embed="rId1"/>
          <a:stretch/>
        </p:blipFill>
        <p:spPr>
          <a:xfrm>
            <a:off x="380880" y="1469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172-754A-47AC-A5B5-E0C4ACFE5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7" name="Picture 8" descr="predicted-throughput-by-transfer-zoom1.png"/>
          <p:cNvPicPr/>
          <p:nvPr/>
        </p:nvPicPr>
        <p:blipFill>
          <a:blip r:embed="rId2"/>
          <a:stretch/>
        </p:blipFill>
        <p:spPr>
          <a:xfrm>
            <a:off x="4923000" y="1469880"/>
            <a:ext cx="2697120" cy="269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edicted-throughput-by-transfer-zoom2.png"/>
          <p:cNvPicPr/>
          <p:nvPr/>
        </p:nvPicPr>
        <p:blipFill>
          <a:blip r:embed="rId3"/>
          <a:stretch/>
        </p:blipFill>
        <p:spPr>
          <a:xfrm>
            <a:off x="4923000" y="4038480"/>
            <a:ext cx="2705040" cy="2705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857600" y="5699160"/>
            <a:ext cx="31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orrelation seen for some transfers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But overall correlation low (0.03)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expl: Other apps besides GridFTP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20" name="Straight Arrow Connector 12"/>
          <p:cNvCxnSpPr/>
          <p:nvPr/>
        </p:nvCxnSpPr>
        <p:spPr>
          <a:xfrm flipV="1">
            <a:off x="3965400" y="3183840"/>
            <a:ext cx="958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 flipV="1">
            <a:off x="3965400" y="5409720"/>
            <a:ext cx="958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Freeform 22"/>
          <p:cNvSpPr/>
          <p:nvPr/>
        </p:nvSpPr>
        <p:spPr>
          <a:xfrm>
            <a:off x="1477800" y="5369040"/>
            <a:ext cx="2332080" cy="1390680"/>
          </a:xfrm>
          <a:custGeom>
            <a:avLst/>
            <a:gdLst>
              <a:gd name="textAreaLeft" fmla="*/ 0 w 2332080"/>
              <a:gd name="textAreaRight" fmla="*/ 2332440 w 23320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2332418" h="1390885">
                <a:moveTo>
                  <a:pt x="2332418" y="1069552"/>
                </a:moveTo>
                <a:cubicBezTo>
                  <a:pt x="2179464" y="1169466"/>
                  <a:pt x="1912955" y="1390885"/>
                  <a:pt x="1570293" y="1375659"/>
                </a:cubicBezTo>
                <a:cubicBezTo>
                  <a:pt x="1227631" y="1360433"/>
                  <a:pt x="538162" y="1207473"/>
                  <a:pt x="276446" y="978196"/>
                </a:cubicBezTo>
                <a:cubicBezTo>
                  <a:pt x="14731" y="748920"/>
                  <a:pt x="1772" y="40315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lation with SNM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3533400"/>
            <a:ext cx="77724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t SNMP data for ESnet links on NERSC-ORNL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NMP raw byte counts: 30 sec po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GridFTP bytes uniformly distributed ove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GridFTP bytes dominate and are not affected by other transfers – consistent with alph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Cs may not solve throughput vari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C32-7257-46A2-87FB-C1B6F9C39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662920" y="618336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Jon Dugan for the SNM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439092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781520" y="1990800"/>
            <a:ext cx="436248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658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NMP reported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0886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low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4B06-CB0E-449E-B3D8-C7D138EC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ll pending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varianc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NERSC-ORNL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SNMP data for links inside NERSC and inside ORN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CPU and I/O usage data at the two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belief: cause of variance is file system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ing nodes write to file systems while DTNs read fil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and Galen Shipman, ORNL, for sit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A85-414E-4488-A847-CD604442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240" y="5257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 dependence on number of stri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reduced number of servers from 3 to 1 in 2009-2011 peri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E39-1CB2-4F2B-A29B-F3A589745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1508040"/>
            <a:ext cx="68310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a set of controlled experiments on ANI testbed and experiment with tools for obtaining CPU usage and disk I/O (file system) usage measurements for regression analysis with GridFTP transfer throughp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ment servers at sites and collect data to explain causes of var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RSC-ORNL: Jason Hick and Galen Ship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: Yee Ting Li and Scott Bradl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: John Dennis and Victor Hazel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E8A2-30FC-49F6-ABBB-53C3C0A2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CESM scientists’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0374-A215-4EDE-BFA9-029CE5F5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4D57-EA9C-4C20-B3A1-D8F281CF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3320" y="12193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6612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48.6ms RTT, 97.9Gbps aggregate TCP throughput with 10 TCP stre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4960" y="2616120"/>
            <a:ext cx="8074080" cy="318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Work done by Eric Pouyol and Brian Tierney, ESne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660680"/>
            <a:ext cx="8758080" cy="434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VA’s ANI testbed experiments to d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dFTP, iperf and nuttcp transfers between NERSC and ANL (up to 30 Gbps; difficult to reserve whole testb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U usage becomes the limiting factor of throughput under high bandwid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client utilizes 100% CPU when throughput is 5.4Gbps; need second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erf and nuttcp: 34% CPU for 9.4 Gb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34F3-1D90-4D8B-A8D6-37D4DAE1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fast option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ta size: 128 MB to 8G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1640" y="1599840"/>
            <a:ext cx="783576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-fast” option of GridFTP relieves pressure on CPU on client side (still reaches 100% on server side when throughput reaches 9.4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need to experiment with RNICs and verbs interface (TCP/IP in O/S consumes CPU cycl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87320" y="3753000"/>
            <a:ext cx="3579840" cy="2152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1295280" y="6137280"/>
            <a:ext cx="3313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CPU Usage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940280" y="3753000"/>
            <a:ext cx="3597120" cy="216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81760" y="6137280"/>
            <a:ext cx="3311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Throughput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ed for March 23,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CE across WAN: Bob Russell’s programs for latency, throughput, CPU uti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with U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erbs interface module to GridFTP (UN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GridFTP across RoCE (nersc-diskpt3 to anl-mempt3) with wide-area V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b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M. Manley and S. Emmerson, “Analysis and selection of a network service for a scientific data distribution project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“A Reliable Message Multicast Transport Protocol for Virtual Circuits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Liu, M. Veeraraghavan, Z. Yan, C. Tracy, J. Tie, I. Foster and J. Dennis, “Science traffic characterization and network service selection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Yan, C. Tracy, M. Veeraraghavan, “A Hybrid Network Traffic Engineering System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385B-CDBA-4285-9D30-CD6F449A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S API: UNH (Russel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CI: ORNL (Atchley, Ship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TS: Ohio State Univ (DK Pand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SP: Delaware/IU (Kissel/Swan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DT and TCP/IP: IPoIB and SD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E12-7B5E-42D3-AD5A-6B3FD3F1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arver or Lawrencium, NERSC, and Cray (krak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 clusters, and Seastar, Gemini interconn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will develop plan for data collection, and instr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CAR will run CESM apps and benchma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is developing course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DC3-1621-4480-A072-83F5092BC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824-27F6-426B-9043-0C2408C3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GER project 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cientific data sets are increasingly distributed to geographically dispersed research organizations/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types of network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-routed service vs. Virtual circu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cast vs.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best network service for scientific data distribu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5A03-C3F3-4452-95F0-385FAAA1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-routed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biquit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reliable data delivery using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s a dedicated circuit between two or more endpoints for a pre-specified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circuit service (D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to any other DCS subscriber for rate-guaranteed communications for specified du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-and-education network (REN) and commercial providers now offer dynam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B9E-9B83-4E67-BE08-DE32C0A0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Data Distribution (ID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eorology data distribution project run by the University Corporation for Atmospheric Research (UC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r real-time data distribution system to over 160 instit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called Local Data Manager (LDM) is used for data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30 types of scientific data products (feedtypes) are distributed using L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08A-8272-491B-AA20-63E41009A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CONDUIT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680" y="5375160"/>
            <a:ext cx="757728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size per day: ~60 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throughput: 250 MB per minute (33.3 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than 2% of silence periods are larger than 1 seco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DD44-E1E4-47BD-996A-763B8C92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87" name="Picture 5" descr="CONDUIT.png"/>
          <p:cNvPicPr/>
          <p:nvPr/>
        </p:nvPicPr>
        <p:blipFill>
          <a:blip r:embed="rId1"/>
          <a:stretch/>
        </p:blipFill>
        <p:spPr>
          <a:xfrm>
            <a:off x="871560" y="1676520"/>
            <a:ext cx="75866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UIT Distribution Top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66680" y="525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4 receivers are directly connected to the UCAR IDD servers (the maximum fan-out nu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104 * 33.3 Mbps = 3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00BC-E542-45D4-B4E3-6D590C84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1" name="Picture 6" descr="CONDUIT_topology.png"/>
          <p:cNvPicPr/>
          <p:nvPr/>
        </p:nvPicPr>
        <p:blipFill>
          <a:blip r:embed="rId1"/>
          <a:stretch/>
        </p:blipFill>
        <p:spPr>
          <a:xfrm>
            <a:off x="380880" y="1625760"/>
            <a:ext cx="4419720" cy="34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029200" y="213372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NEXRAD2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360" y="5181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size per day: ~56 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throughput: 58 MB/minute (7.8 Mbp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ll silence periods are less than 1 seco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7C2A-CA03-4203-81DB-F5DF1B21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6" name="Picture 4" descr="NEXRAD2.png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RAD2 Distribution Topolog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096D-0FB1-4CE4-91EC-90863030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320" y="51811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D servers at UCAR directly deliver NEXRAD2 data to 55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55 * 7.8 Mbps = 429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29200" y="251460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7" descr="NEXRAD2_topology.gif"/>
          <p:cNvPicPr/>
          <p:nvPr/>
        </p:nvPicPr>
        <p:blipFill>
          <a:blip r:embed="rId1"/>
          <a:stretch/>
        </p:blipFill>
        <p:spPr>
          <a:xfrm>
            <a:off x="304920" y="1684440"/>
            <a:ext cx="44956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and SLA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VCs useful to guarantee rate for science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DC7-1ECC-40AF-BDE7-7551FB1B4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network service used by I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over IP-routed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products are effectively sent to the receivers in a round-robin fas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 service is ubiquitou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 requires UCAR to run 9 servers for IDD; uses 5 Gbps of its access link; data delivery latency sensitive to the number of recei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123D-6B7F-4E99-8295-F6F1D79F2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unicast virtual circui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be good for NEXRAD2, but bad for CONDUIT due to its burstin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tilization will be poor if circuit rates are chosen to be high to keep latency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ircuit serv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CS can be scheduled for the CONDUIT bursty peri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the silence periods are too short (mostly less than 1 second) for circuits to be scheduled and set up for use (setup delay ~1 min in today’s REN offering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5A6-6923-4E8B-AA8D-FE5183BF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virtual circui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IP multicast, no potential data-plane congestion in rate-guaranteed 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gative acknowledgements (NACKs) us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cket loss due to receive buffer overflows or bit errors will be handled at the end of the multica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for high-speed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hypothesis: the throughput for most receivers in a VC multicast group can be independent of the throughput experienced by some slow receivers that incur retrans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15E-2144-4C93-B3BE-36025BD98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2P vs. multic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requires more than one transfer for most of the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requires one transfer + retransmissions for lost blocks (small percent with real-time schedu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uitable if file is already available in multiple nodes, but in IDD, files are available only at a single node in the beginning and needs to be distributed quickly before next arri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6F1-91CF-4E40-93E1-A86B406F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B769-905C-4D2D-9287-86A3C31B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quirements for VCMT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,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lticast group should support hundreds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: one slow receiver that incurs retransmissions will not decrease the throughput for all rece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88C5-CE54-40CB-BA0E-9DFAAD52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Key Design Concep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high-speed transfers, multicast whole file before handling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ture version: relax to allow fast senders or fast receivers to run retransmission thread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VCMTP sender/receiver processes in high-priority mode (SCHED_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eases receive buffer overflow lo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for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Acknowledgement (NACK) to avoid positive ACK-implosion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s with different send rates serve different groups of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88C-2D8C-4128-B3F2-64FFC973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Prototy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2DB-4EAB-4B9A-8380-21B511879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25" name="Picture 6" descr="multicast-VC.png"/>
          <p:cNvPicPr/>
          <p:nvPr/>
        </p:nvPicPr>
        <p:blipFill>
          <a:blip r:embed="rId1"/>
          <a:stretch/>
        </p:blipFill>
        <p:spPr>
          <a:xfrm>
            <a:off x="304920" y="1579680"/>
            <a:ext cx="4863960" cy="4516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952880" y="1523520"/>
            <a:ext cx="367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blocks of a message are encapsulated in UDP packets to be multicast over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s written to disk using offset (out of sequence wri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s send  retransmission requests to the sender over unicast TCP conn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has multiple retransmission threads each with a unicast TCP connection to a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erimental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ulab Testb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ted at the University of Uta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des (both high-end and low-end) connected by high-end switches an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end nodes (D710 series)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4 GHz 64-bit Quad Core Xeon E5530, 12 GB RAM, 1 G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w-end nodes (PC600 series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MHz Intel Pentium III, 256 MB RAM, 100M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E1C-A021-45AA-AE37-22BAE421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ion of Multicas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523520"/>
            <a:ext cx="81532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sender multicasts disk files of different sizes to 7 high-end receiver nodes (D71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MTP is the only user process running on th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ing rate: 6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file size, the data multicast is repeated 10 runs (7 * 10  = 70 recep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903-365E-4B06-8B7D-078205A36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3713040"/>
          <a:ext cx="8001000" cy="238284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218960"/>
                <a:gridCol w="1219320"/>
                <a:gridCol w="1143000"/>
              </a:tblGrid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receptions in no-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9.49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.56 (1.6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5 (0.3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17 (0.87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no-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5.65 (0.81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7 (0.7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22 (0.98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1.4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0.32 (4.9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6.1 (4.4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1"/>
          <p:cNvSpPr/>
          <p:nvPr/>
        </p:nvSpPr>
        <p:spPr>
          <a:xfrm>
            <a:off x="217980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degradation in throughput for fast receivers in the presence of slow receiv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usage st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transfer, servers log size, start time, duration, number of parallel streams, stripes, dest 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ge stats are sent via UDP to Globus server from site GridFTP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s can be obtained with permission from Globus or the site itself (e.g., NCAR, SLAC, NERSC, BN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D871-0D7A-4F88-B8D8-39AE9E2F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ffects of multitasking and SCHED_RR schedu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the VCMTP process is running with other processes on the receiver node, packet loss may occur due to resource sharing (CPU, I/O,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solution: run the VCMTP process in higher priority than other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ux provides support for process scheduling with soft real-time priority (SCHED_RR mod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eriment, one sender multicasts a 128-MB disk file to X low-end receiver nodes (PC600), where 20% of the X nodes run the VCMTP process along with two other CPU-intensive benchmarks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s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the UnixBench su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8DA-B3CC-4280-8031-12B9D9397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ffects of multitasking and SCHED_RR scheduling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527040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 MB file multicast tests with 5, 10, 15, and 2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 for each exp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t: particular set of “slow” nodes (repeat 5 ti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deviations are shown as numbers in the pl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4E9-EE2B-4854-BD20-12580351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" y="151776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97560" y="151776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3971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gative of VCMT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 to select sending 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52388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ransfer experiments with single-sender, single-receiver for both TCP and VCMTP (on D710 no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different sending rates (800 Mbps and 600 Mb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A62-DFDC-4923-A0DC-58D2CAF10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876920" y="3962520"/>
          <a:ext cx="4038480" cy="18288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4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63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9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2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8"/>
          <p:cNvSpPr/>
          <p:nvPr/>
        </p:nvSpPr>
        <p:spPr>
          <a:xfrm>
            <a:off x="4876920" y="35924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Avg. Retransmission Rates for VCMTP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ncy Analysis for TCP vs. VCM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15238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 the scenario where a sender sends a message of siz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imum throughput supported by the send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, wh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the link capacity, 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maximum sending rate with 100% resource usage (CPU, IO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Similarly, maximum throughput supported by a receiv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Any one of these four capacity limitations could be the bottlen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1EB-77EC-44EC-A506-1950235B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1724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. Total delay for unicast TC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226548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5029200" y="4592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I. Total delay for VCMT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562720" y="4992840"/>
            <a:ext cx="3124080" cy="574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9"/>
          <p:cNvSpPr/>
          <p:nvPr/>
        </p:nvSpPr>
        <p:spPr>
          <a:xfrm>
            <a:off x="5181480" y="3016080"/>
            <a:ext cx="3962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* Whe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  <a:ea typeface="Arial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 is the bottleneck, the total delay for unicast TCP can be reduced by running multiple sender servers in parallel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1523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the case where s = 125 MB, n = 50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0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26A5-3685-487B-9B21-E75AE946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304920" y="2554200"/>
            <a:ext cx="45720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I. For unicast TCP, r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is the bottleneck for the message distribution (although each receiver link capacity is only 100Mbps, the total throughput that can be supported to all receivers is 100 Mbps * 50 = 5 Gbps ).Therefore, the total delay using unicast TCP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* 50 / 1 Gbps = 5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219320" y="541656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chieve the same total latency, 5 servers are needed at the sending side for unicast TCP (each sender can simultaneously send the message to 10 receivers)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876920" y="2554200"/>
            <a:ext cx="4267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. For VCMTP, the bottleneck for the message multicast is the receiver link capacity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c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Hence the total delay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/ 100 Mbps = 1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 for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unicast TCP over IP-routed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es at routers due to competing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oss rates due to overprovis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VCM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scheduling of VCMTP process reduces receive buffer losses to low r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5AEA-A93A-488F-AB91-692B01109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sum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iable multicast transport protocol appears to be scalable if underlying network offers VC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speed transfers requires VCMTP processes to be run in high-priority mode if sender/receivers are multitas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CMTP can both reduce bandwidth usage and the overall delay for some large-scale, long-duration data distribution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5A1-9A39-4A66-B9E1-531893D7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Y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mitted proposal to Internet2 for UVA to become a DYNES end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d science users: LHC CMS physicist, Brad Cox, and biologist, Mike Timko at UVA – willing to try DY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DYNES for VCMTP t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ogs in multipl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use NDDI OpenFlow for multipoint (ION for 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E070-3C27-4B4D-8463-666B8D7F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“sessions” from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 scientist uses shell scripts to move “Lots of Small Files (LOSF)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GridFTP usage stats, need an algorithm to “merge” transfers into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simultaneous transfers; look for last completi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next transfer’s start time is within 1 minute of completion time, we assume it is part of the same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FEB-6698-4056-964D-6B8E180A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GridFT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6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8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50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89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07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8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4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2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D8A-E60D-4D8B-AFDB-6ABA43F57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-2011, but only two user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duration session was 13 hrs 27 mins (48420 s) but size was only 2.4 TB (rate: 410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size session (2.7 TB) took 7.5 hours (808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6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5.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1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2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5"/>
          <p:cNvSpPr/>
          <p:nvPr/>
        </p:nvSpPr>
        <p:spPr>
          <a:xfrm>
            <a:off x="2426040" y="6399360"/>
            <a:ext cx="430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John Dennis and Matt Woitaszek, NCAR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AC-BNL GridFTP usage logs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MB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3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3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0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95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2.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8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80B-7351-4E1A-88DE-EB0DF1DE4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transfers much larger than NCAR-N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quartile throughput much smaller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te that the session that is “max” from a size perspective is not necessarily the one that is “max” from a duration perspectiv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1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6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3174840" y="639936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Yee Ting Li and Wei Yang, SLAC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% of sessions for which dynamic VCs are sui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 (2009-201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7 sessions from 52519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&gt;=100MB sessions would &gt; 10mins if they experienced third quartile throughput of 681.7 M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st session: 13.5 hrs; size: 2.4TB (410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size session: 2.7 TB; dur = 7.5 hours (808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 (Feb. 10-24, 20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put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: 191 Mbps; max: 1.93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33 sessions from 133,346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.4% of sessions would have lasted longer than 10 mins if they had experienced a throughput of 19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BE39-CAA4-468E-846E-E7319C6C3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dcterms:modified xsi:type="dcterms:W3CDTF">2012-03-22T15:32:05Z</dcterms:modified>
  <cp:revision>1523</cp:revision>
  <dc:subject/>
  <dc:title>PowerPoint Presentation</dc:title>
</cp:coreProperties>
</file>